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2DA-F085-4172-9E6A-5013407A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89B-1C0B-496C-ACDA-89688C0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094-2F1C-4E31-BB78-4D02DE09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CB2-2785-48BB-9246-7883EA91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FEA7-9716-49FC-8F8B-A771FEC2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894-4184-441A-A9F1-A56CA55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F6B-48DB-4FFE-8F4A-45AF2EC8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560-F96E-4E92-8011-F0B4E368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BFB-FADE-46E1-B47B-D28290C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7489-57D8-41E3-8824-A813997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7BE-387B-4847-AB16-261BBC2C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D49-8021-4C18-8404-E31DFA0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87BE-4B08-4DF6-B49B-849BCA6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6441-EC30-4699-88BA-45F7240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064-910B-4996-9AA9-2E4C285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ED14-597F-4804-947A-D7992801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147-424E-42E9-B8F2-38E98F17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423-A8E8-4515-9B7A-A38FE81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553-8193-427D-AD91-FE904FE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E50-A8DC-4C30-B446-576182C3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AD8-510C-4B47-A1CF-C49D5413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B96-6EB0-492B-A13B-D8CA32D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948-FC01-4097-9CCE-E00096B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650-A7B4-47CA-B6F6-29FBF91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B8D-A7F5-4ED8-8B7D-B813401E44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58A-BB81-444E-ADB7-6D822057CA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M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Alyssa Cro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jardin es nuev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270504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pis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bella, lujoso, y incre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27859" r="2669" b="-5465"/>
          <a:stretch/>
        </p:blipFill>
        <p:spPr>
          <a:xfrm>
            <a:off x="1752480" y="2971800"/>
            <a:ext cx="556272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mansi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fabulosa and b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19920" cy="4287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mi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 y impresi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639040" cy="4190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moderna, increible, 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400800" cy="4162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s lujoso y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477120" cy="4400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mi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moderno, bonito, y b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172120" cy="361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cua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uarto 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 y impresi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garaje es inc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, bello, y n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y bello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7:00Z</dcterms:created>
  <dc:creator>  alyssa</dc:creator>
  <dc:description/>
  <dc:language>en-US</dc:language>
  <cp:lastModifiedBy>  alyssa</cp:lastModifiedBy>
  <dcterms:modified xsi:type="dcterms:W3CDTF">2012-10-26T15:29:53Z</dcterms:modified>
  <cp:revision>7</cp:revision>
  <dc:subject/>
  <dc:title>Mi Mansion</dc:title>
</cp:coreProperties>
</file>